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80ED-97E7-49EC-A6D9-805FDC71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72B-3797-49E2-8111-7314D2C7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C6B-8D76-49B9-A7AB-CAA43856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883-2C52-47BD-A536-FA0C4C38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59AB-E7C6-4929-8BD9-A98B307C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DFC6-5577-4E98-AD27-72F09C74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C1C7-1BA1-46A4-8E38-168D1D33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418A-DCAA-464F-86D6-39350AC1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27B6-9E7C-4517-8C60-0C8D69E6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5BC6-0B1A-4EB6-A32F-0BC407F1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2175-59B5-4243-B80A-82838C19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948-D3D4-4C8B-8043-6F3FC973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02E2-00CA-4669-BCAB-C6CAA0BB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2DA1-9D74-4222-98F0-A78FEBF5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48A2-8C79-4407-90D0-A183E268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FB74-17B0-41BB-A803-86363B8D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93D4-B91D-4FBA-80A4-5B4A04CD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9B7-2CC6-4496-ACFA-D1B88429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77B-36D3-4FE1-B609-307327D7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2BD-CDFC-4115-B42F-7F84C584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993-D681-407C-89CF-DD16584D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FBC-D2BE-4F96-8E5C-40D9FF62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E66-E1B5-4BF1-8539-07CF004E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C2C-6365-4484-8343-50707802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15BE-1475-45D3-B9F9-CDAFBD0F35A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036B-79F5-45CF-99B3-6A7E93D63E9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Soda Strid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Skyler Ca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op gives you the best sugar high Pepsi or Mountain Dew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Hypothese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think that the Mountain Dew will do better because it has the most suga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ime the testers with out pop then give them Pepsi and test them again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next give them Mountain Dew and test them aga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untain Dew did better than the Pepsi because it actually made some one faste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hypotheses was correct the Mountain Dew did do better than the Pepsi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cknowledgments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would like to thank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even, Shane, Chrys, Robby, Caleb, Zak, and Nic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4:31:09Z</dcterms:created>
  <dc:creator>USD376</dc:creator>
  <dc:description/>
  <dc:language>en-US</dc:language>
  <cp:lastModifiedBy>USD376</cp:lastModifiedBy>
  <dcterms:modified xsi:type="dcterms:W3CDTF">2012-03-08T14:33:18Z</dcterms:modified>
  <cp:revision>2</cp:revision>
  <dc:subject/>
  <dc:title>Soda Stride</dc:title>
</cp:coreProperties>
</file>